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00F8-9C14-47C0-8912-1111CEDB9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D110-9703-469F-AFC1-69AF64182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B8AD-1BD5-41EF-99CD-3BF9686AF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A378-9ED7-41BE-8C47-D666C887C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A4FD4-DBEE-4709-9925-3422AD37A4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C5CF0-1D16-4E9C-A411-B3DF72F98E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0564B-89D2-4D62-9ADC-37118C215C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4D224-1439-457E-8550-64616D099C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65409-26C9-42A4-B3CA-939B0A24F3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18A9F-4B49-48D6-8C30-A386E1BCA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28278-6C52-40AB-AA45-14F9ECAA4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35EE-45D6-4C38-8934-EB3F8ABBC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5FB4C-5F1B-4794-8295-19594DAF66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460C9-4DC6-447B-AE91-DCE4462E7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2CE30-D5A8-41A2-91CD-D1AA1A26C3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85E6A-3DF6-4E20-83EA-5CDAF7D75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14196-014F-4E37-B3E1-1508FAC3A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8871-EE35-42DD-B7E4-D7146C4D7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2A0A-2807-4CAA-95F5-FE027E49F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2EF0-E14D-4008-BC56-5E223BF5A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D672-4B40-4E33-86DD-5FFD97BE0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1017-62ED-4D24-960C-6CED79C98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504D-12C2-49E2-AC3A-7A1D2B429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024C-F60F-401E-9811-DA188F3B1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7BA8-72FA-4354-9AD1-45FF51C7A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5548-2204-4ACC-81D2-F0805644A0C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623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Q4 – 2005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2005 vs. 2004</a:t>
            </a:r>
            <a:endParaRPr b="1" lang="en-US" sz="4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22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Nort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4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A679-98AF-49E9-AC0C-E14A5823BF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81AE-0247-4B8D-BDEE-349635E5F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4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3452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230C-F610-429A-972F-D8A2B49A3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North to West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8EC6-0813-4223-B7EB-3ADA5598E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uration Curves: S_N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4343400" cy="28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419720" cy="281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4C9E-82A4-4667-9320-C786565BB7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uration Curves: S_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43434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2762-A1E5-4235-80BC-3DD57898C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uration Curves: N_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48320" y="83808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8DD6-5C8A-459D-9C19-2BF44CF943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N_W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477120" cy="281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64771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B585-97F2-4544-A68C-3EC6041964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S_N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CD1F-689F-4283-9800-DDD8E3C550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S_H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760E-9CEF-45E5-819E-3D0FD0A492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.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limits vs. over cons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A90A-C6D1-4005-9A30-E291CF490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N_H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5888-8853-42A4-8381-9FF44C3721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Minutes Above Limit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B7CD-0086-465E-AF43-E34F68E52A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25780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343400" cy="441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6EFD-8887-40B5-8EFA-70049C2E73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57200" y="5410080"/>
          <a:ext cx="8077320" cy="911520"/>
        </p:xfrm>
        <a:graphic>
          <a:graphicData uri="http://schemas.openxmlformats.org/drawingml/2006/table">
            <a:tbl>
              <a:tblPr/>
              <a:tblGrid>
                <a:gridCol w="888840"/>
                <a:gridCol w="1113120"/>
                <a:gridCol w="1184040"/>
                <a:gridCol w="1111320"/>
                <a:gridCol w="1112760"/>
                <a:gridCol w="1333800"/>
                <a:gridCol w="133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A51A-0739-4404-8F31-52B173B4DF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38280" y="5410080"/>
          <a:ext cx="4660920" cy="909720"/>
        </p:xfrm>
        <a:graphic>
          <a:graphicData uri="http://schemas.openxmlformats.org/drawingml/2006/table">
            <a:tbl>
              <a:tblPr/>
              <a:tblGrid>
                <a:gridCol w="851040"/>
                <a:gridCol w="744480"/>
                <a:gridCol w="785880"/>
                <a:gridCol w="942840"/>
                <a:gridCol w="708120"/>
                <a:gridCol w="62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8816-C37E-4D85-BD08-CA399A5100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ummary of Zonal Congestion Occurrences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– Interval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143000"/>
          <a:ext cx="7377120" cy="5154480"/>
        </p:xfrm>
        <a:graphic>
          <a:graphicData uri="http://schemas.openxmlformats.org/drawingml/2006/table">
            <a:tbl>
              <a:tblPr/>
              <a:tblGrid>
                <a:gridCol w="782640"/>
                <a:gridCol w="784080"/>
                <a:gridCol w="652320"/>
                <a:gridCol w="578160"/>
                <a:gridCol w="658800"/>
                <a:gridCol w="606240"/>
                <a:gridCol w="652680"/>
                <a:gridCol w="777600"/>
                <a:gridCol w="652680"/>
                <a:gridCol w="579240"/>
                <a:gridCol w="652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7CDD-3866-47A9-938B-BB6D5F16B2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ummary of Zonal Congestion Occurrences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- Day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19320" y="1066680"/>
          <a:ext cx="6850080" cy="5131080"/>
        </p:xfrm>
        <a:graphic>
          <a:graphicData uri="http://schemas.openxmlformats.org/drawingml/2006/table">
            <a:tbl>
              <a:tblPr/>
              <a:tblGrid>
                <a:gridCol w="761760"/>
                <a:gridCol w="565200"/>
                <a:gridCol w="652680"/>
                <a:gridCol w="564840"/>
                <a:gridCol w="652680"/>
                <a:gridCol w="565200"/>
                <a:gridCol w="652320"/>
                <a:gridCol w="565200"/>
                <a:gridCol w="652320"/>
                <a:gridCol w="565200"/>
                <a:gridCol w="652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3492-814C-4C5E-AFED-BAF72D0EA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Nor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E6BA-0E8F-4AB3-AF02-A53F0E105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Nor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4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1303-8B4E-499B-8985-F103A38591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Nort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758C-06AB-4B0C-8B62-4C800D29F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mbarchenger</cp:lastModifiedBy>
  <dcterms:modified xsi:type="dcterms:W3CDTF">2006-03-15T15:32:38Z</dcterms:modified>
  <cp:revision>93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6418467</vt:r8>
  </property>
  <property fmtid="{D5CDD505-2E9C-101B-9397-08002B2CF9AE}" pid="3" name="_AuthorEmail">
    <vt:lpwstr>bgarza@ercot.com</vt:lpwstr>
  </property>
  <property fmtid="{D5CDD505-2E9C-101B-9397-08002B2CF9AE}" pid="4" name="_AuthorEmailDisplayName">
    <vt:lpwstr>Garza, Beth</vt:lpwstr>
  </property>
  <property fmtid="{D5CDD505-2E9C-101B-9397-08002B2CF9AE}" pid="5" name="_EmailSubject">
    <vt:lpwstr>Draft agenda for the 4/19/06 WMS Meeting</vt:lpwstr>
  </property>
  <property fmtid="{D5CDD505-2E9C-101B-9397-08002B2CF9AE}" pid="6" name="_NewReviewCycle">
    <vt:lpwstr/>
  </property>
</Properties>
</file>